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D762-0CF5-47B8-8351-7F7317D3D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7DF9-B741-4EEB-A62C-C85F32D74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6381-5015-453B-983E-E7B043EF9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DDDF-4A0E-4240-A022-F81A18AA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0578-20EC-4BD7-BE5A-45E12349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598B-E20B-4BDD-9C6C-E9FA11F1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D6E7-4D0B-4EE8-9DA1-35A1A4E9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9B77-81A5-4622-A6F3-B9476F4F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D653-362A-46FA-AC71-CC8AF4B2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2E19-DFF0-4D30-BBDA-2AB404E8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2068-0FBD-4EB7-8969-AD9346F4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1163-9AF3-4662-93D1-F35B5394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EEA-847D-4252-99C7-7814E76E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8C7A-82A2-4D40-BA9F-149D8FDD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C715-2286-422D-997A-E3A73D06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BAE1-FAF6-43D4-8197-F5529D0D1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32448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3244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+1 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95b"/>
                </a:solidFill>
                <a:latin typeface="Arial"/>
              </a:rPr>
              <a:t>Cisco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Switches-Catalyst 4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Arial"/>
                <a:ea typeface="Arial"/>
              </a:rPr>
              <a:t>Title </a:t>
            </a: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Arial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E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WS-C4948E_Front.emf"/>
          <p:cNvPicPr/>
          <p:nvPr/>
        </p:nvPicPr>
        <p:blipFill>
          <a:blip r:embed="rId1"/>
          <a:stretch/>
        </p:blipFill>
        <p:spPr>
          <a:xfrm>
            <a:off x="4038480" y="358128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E-F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WS-C4948E-F_Rear.emf"/>
          <p:cNvPicPr/>
          <p:nvPr/>
        </p:nvPicPr>
        <p:blipFill>
          <a:blip r:embed="rId1"/>
          <a:stretch/>
        </p:blipFill>
        <p:spPr>
          <a:xfrm>
            <a:off x="4033800" y="355932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E-F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WS-C4948E-F_Front.emf"/>
          <p:cNvPicPr/>
          <p:nvPr/>
        </p:nvPicPr>
        <p:blipFill>
          <a:blip r:embed="rId1"/>
          <a:stretch/>
        </p:blipFill>
        <p:spPr>
          <a:xfrm>
            <a:off x="4038480" y="358128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X4904-10GE (=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WS-X4904-10GE_(=).emf"/>
          <p:cNvPicPr/>
          <p:nvPr/>
        </p:nvPicPr>
        <p:blipFill>
          <a:blip r:embed="rId1"/>
          <a:stretch/>
        </p:blipFill>
        <p:spPr>
          <a:xfrm>
            <a:off x="4356000" y="3556080"/>
            <a:ext cx="43200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X4908-10GE (=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WS-X4908-10GE_(=).emf"/>
          <p:cNvPicPr/>
          <p:nvPr/>
        </p:nvPicPr>
        <p:blipFill>
          <a:blip r:embed="rId1"/>
          <a:stretch/>
        </p:blipFill>
        <p:spPr>
          <a:xfrm>
            <a:off x="4356000" y="3556080"/>
            <a:ext cx="43200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X4920-GB-RJ45 (=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WS-X4920-GB-RJ45_(=).emf"/>
          <p:cNvPicPr/>
          <p:nvPr/>
        </p:nvPicPr>
        <p:blipFill>
          <a:blip r:embed="rId1"/>
          <a:stretch/>
        </p:blipFill>
        <p:spPr>
          <a:xfrm>
            <a:off x="4356000" y="3556080"/>
            <a:ext cx="43200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isco_R42610_Front.emf"/>
          <p:cNvPicPr/>
          <p:nvPr/>
        </p:nvPicPr>
        <p:blipFill>
          <a:blip r:embed="rId1"/>
          <a:stretch/>
        </p:blipFill>
        <p:spPr>
          <a:xfrm>
            <a:off x="3895560" y="1430280"/>
            <a:ext cx="135288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609480" y="1447920"/>
            <a:ext cx="7772400" cy="49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These Im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S-4948-10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S-4948-10GE.emf"/>
          <p:cNvPicPr/>
          <p:nvPr/>
        </p:nvPicPr>
        <p:blipFill>
          <a:blip r:embed="rId1"/>
          <a:stretch/>
        </p:blipFill>
        <p:spPr>
          <a:xfrm>
            <a:off x="4083120" y="3562200"/>
            <a:ext cx="97776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C4900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WS-C4900M.emf"/>
          <p:cNvPicPr/>
          <p:nvPr/>
        </p:nvPicPr>
        <p:blipFill>
          <a:blip r:embed="rId1"/>
          <a:stretch/>
        </p:blipFill>
        <p:spPr>
          <a:xfrm>
            <a:off x="4084560" y="3510000"/>
            <a:ext cx="97488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C4900M (re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WS-C4900M_(rear).emf"/>
          <p:cNvPicPr/>
          <p:nvPr/>
        </p:nvPicPr>
        <p:blipFill>
          <a:blip r:embed="rId1"/>
          <a:stretch/>
        </p:blipFill>
        <p:spPr>
          <a:xfrm>
            <a:off x="4076640" y="3510000"/>
            <a:ext cx="9907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WS-C4948.emf"/>
          <p:cNvPicPr/>
          <p:nvPr/>
        </p:nvPicPr>
        <p:blipFill>
          <a:blip r:embed="rId1"/>
          <a:stretch/>
        </p:blipFill>
        <p:spPr>
          <a:xfrm>
            <a:off x="4033800" y="355932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WS-C4948_Rear.emf"/>
          <p:cNvPicPr/>
          <p:nvPr/>
        </p:nvPicPr>
        <p:blipFill>
          <a:blip r:embed="rId1"/>
          <a:stretch/>
        </p:blipFill>
        <p:spPr>
          <a:xfrm>
            <a:off x="4033800" y="355932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WS-C4948_Front.emf"/>
          <p:cNvPicPr/>
          <p:nvPr/>
        </p:nvPicPr>
        <p:blipFill>
          <a:blip r:embed="rId1"/>
          <a:stretch/>
        </p:blipFill>
        <p:spPr>
          <a:xfrm>
            <a:off x="4029120" y="353700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E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WS-C4948E_Rear.emf"/>
          <p:cNvPicPr/>
          <p:nvPr/>
        </p:nvPicPr>
        <p:blipFill>
          <a:blip r:embed="rId1"/>
          <a:stretch/>
        </p:blipFill>
        <p:spPr>
          <a:xfrm>
            <a:off x="4033800" y="355932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8:40:15Z</dcterms:created>
  <dc:creator>Brett Newman</dc:creator>
  <dc:description/>
  <dc:language>en-US</dc:language>
  <cp:lastModifiedBy>Brett Newman</cp:lastModifiedBy>
  <dcterms:modified xsi:type="dcterms:W3CDTF">2011-04-22T22:14:03Z</dcterms:modified>
  <cp:revision>5</cp:revision>
  <dc:subject/>
  <dc:title>Title Slide</dc:title>
</cp:coreProperties>
</file>